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C9A-3C09-4843-8801-47DB94E6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B81-550E-42E5-B538-B6B2C234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4C7-70E9-4B6B-9455-291E8037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922-76F7-493C-AF4F-8800F0BE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5FC2-0E1A-451D-9E05-30DDBF1F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D276-EE27-4240-8A92-181C3325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B680-CB77-4041-8C3D-CC8D1687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952B-15C0-4503-AEDF-70E80A7F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8E0B-DFAD-441B-AE0E-E1BD618A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B366-AE51-448D-B057-AA109EC3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66D2-AC8B-48F1-B66C-82EFBB25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470-6BD3-4551-AF06-C1E63327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0A58-A2C6-4C4F-877A-85647BD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A148-499F-4EAE-A018-EEC08F0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9B2D-09DD-41BE-9C74-FF80D43D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4165-D077-495D-A815-A73A7A97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EBCD-1230-4C48-9768-1E7910F8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20F-20C6-4A3C-84E1-B38298FA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7C1-18A6-4EB5-BDBC-99C5CC0F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A60-D602-495C-81C5-678F96C1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BFC-474E-48E9-AF86-B6D64A25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00D-E4EB-4AB8-B9CB-8BD8F89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6A7-EB23-4EBA-AB00-21F84CAF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EB9-CF00-4673-B58E-4CC4F905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EC0A-8078-4184-B862-4E3153549C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E1D5-A199-4BA0-947F-9BBF9DEF2B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tyle (20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O. To understand how black people are represented in the 2009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88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se characters? Which Stuart Hal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is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they fit into? Also what Propp character would they fit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3527280" cy="252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64000" y="3965400"/>
            <a:ext cx="2736720" cy="2414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443640" y="4003560"/>
            <a:ext cx="231768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ngs to look out for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 between different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v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mbient s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y stereotypes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ch the fil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ake notes whilst watching the fi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different groups of people are being represented in particular black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y been put into the mediated stere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think this is a true reflection of black people at th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ories could we ap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so consider mise-en-sc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Expressions/bod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things as a whole contribute to the representation of black culture within the fil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presentation Baby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e different representations you saw within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3068640"/>
            <a:ext cx="4249800" cy="2448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383076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s in Free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representations you s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theory you could app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 overall representation of black people in the film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8:40:40Z</dcterms:created>
  <dc:creator>martinaos</dc:creator>
  <dc:description/>
  <dc:language>en-US</dc:language>
  <cp:lastModifiedBy>martinaos</cp:lastModifiedBy>
  <dcterms:modified xsi:type="dcterms:W3CDTF">2010-11-04T10:57:14Z</dcterms:modified>
  <cp:revision>8</cp:revision>
  <dc:subject/>
  <dc:title>Babylon (1980)</dc:title>
</cp:coreProperties>
</file>